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3D7-C8E8-4F03-9121-A9721CEB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E21-3C23-495E-BE53-A27C06F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EC0-866A-4ED9-BEC5-DD985E0E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547-AC36-458E-9466-53632A98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E53-9233-4640-B3EB-EB34C62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68B-3A3A-43C9-AEB4-8BD2E72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946-2B96-4840-8724-38E4EFC7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160-C18B-438B-A48F-ACF51234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012-997E-4788-B8FD-5E70E51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D0F-7CCC-4285-AB8F-D8ACD43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1E1-FAA8-4104-BF06-01F15B5D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3C9-4F9F-4E05-A730-22E27D9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B543-9A3A-46D3-BF37-848E60369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ROSS-SEC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8680" y="1697040"/>
            <a:ext cx="4876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6:25Z</dcterms:modified>
  <cp:revision>105</cp:revision>
  <dc:subject/>
  <dc:title>The Art in the State of the Art</dc:title>
</cp:coreProperties>
</file>